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chimes.wav" ContentType="audio/x-wav"/>
  <Override PartName="/ppt/media/greatjob2.wav" ContentType="audio/x-wav"/>
  <Override PartName="/ppt/media/tryagian2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0C93-CFD0-4378-BFA4-587D9B15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920-D19C-47BB-900A-67364DBB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E79-774E-4940-B028-FB0C54AA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2DC-5431-4260-B81C-6629CF03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D689-B1B7-479C-8706-73495171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F03-BBFC-46DF-8CD2-4CB2A8BB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D75-F509-493B-9526-EDCDF9A6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977-50D7-4E94-ABAC-3C7BA801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1F4-C13E-4301-A8FE-9FD1992E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64A-385E-4B32-8E00-B822F1D2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5586-22CF-4F72-A82A-6CA06578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60F-F0F2-455F-8F63-C20F35C5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0248-A93F-462F-A004-F479D306D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.png"/><Relationship Id="rId22" Type="http://schemas.openxmlformats.org/officeDocument/2006/relationships/audio" Target="../media/chimes.wav"/><Relationship Id="rId23" Type="http://schemas.openxmlformats.org/officeDocument/2006/relationships/audio" Target="../media/greatjob2.wav"/><Relationship Id="rId24" Type="http://schemas.openxmlformats.org/officeDocument/2006/relationships/audio" Target="../media/tryagian2.wav"/><Relationship Id="rId25" Type="http://schemas.openxmlformats.org/officeDocument/2006/relationships/audio" Target="../media/tryagian2.wav"/><Relationship Id="rId26" Type="http://schemas.openxmlformats.org/officeDocument/2006/relationships/audio" Target="../media/tryagian2.wav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.png"/><Relationship Id="rId22" Type="http://schemas.openxmlformats.org/officeDocument/2006/relationships/audio" Target="../media/chimes.wav"/><Relationship Id="rId23" Type="http://schemas.openxmlformats.org/officeDocument/2006/relationships/audio" Target="../media/greatjob2.wav"/><Relationship Id="rId24" Type="http://schemas.openxmlformats.org/officeDocument/2006/relationships/audio" Target="../media/tryagian2.wav"/><Relationship Id="rId25" Type="http://schemas.openxmlformats.org/officeDocument/2006/relationships/audio" Target="../media/tryagian2.wav"/><Relationship Id="rId26" Type="http://schemas.openxmlformats.org/officeDocument/2006/relationships/audio" Target="../media/tryagian2.wav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.png"/><Relationship Id="rId22" Type="http://schemas.openxmlformats.org/officeDocument/2006/relationships/audio" Target="../media/chimes.wav"/><Relationship Id="rId23" Type="http://schemas.openxmlformats.org/officeDocument/2006/relationships/audio" Target="../media/greatjob2.wav"/><Relationship Id="rId24" Type="http://schemas.openxmlformats.org/officeDocument/2006/relationships/audio" Target="../media/tryagian2.wav"/><Relationship Id="rId25" Type="http://schemas.openxmlformats.org/officeDocument/2006/relationships/audio" Target="../media/tryagian2.wav"/><Relationship Id="rId26" Type="http://schemas.openxmlformats.org/officeDocument/2006/relationships/audio" Target="../media/tryagian2.wav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.png"/><Relationship Id="rId22" Type="http://schemas.openxmlformats.org/officeDocument/2006/relationships/audio" Target="../media/chimes.wav"/><Relationship Id="rId23" Type="http://schemas.openxmlformats.org/officeDocument/2006/relationships/audio" Target="../media/greatjob2.wav"/><Relationship Id="rId24" Type="http://schemas.openxmlformats.org/officeDocument/2006/relationships/audio" Target="../media/tryagian2.wav"/><Relationship Id="rId25" Type="http://schemas.openxmlformats.org/officeDocument/2006/relationships/audio" Target="../media/tryagian2.wav"/><Relationship Id="rId26" Type="http://schemas.openxmlformats.org/officeDocument/2006/relationships/audio" Target="../media/tryagian2.wav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.png"/><Relationship Id="rId22" Type="http://schemas.openxmlformats.org/officeDocument/2006/relationships/audio" Target="../media/chimes.wav"/><Relationship Id="rId23" Type="http://schemas.openxmlformats.org/officeDocument/2006/relationships/audio" Target="../media/greatjob2.wav"/><Relationship Id="rId24" Type="http://schemas.openxmlformats.org/officeDocument/2006/relationships/audio" Target="../media/tryagian2.wav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.png"/><Relationship Id="rId22" Type="http://schemas.openxmlformats.org/officeDocument/2006/relationships/audio" Target="../media/chimes.wav"/><Relationship Id="rId23" Type="http://schemas.openxmlformats.org/officeDocument/2006/relationships/audio" Target="../media/greatjob2.wav"/><Relationship Id="rId24" Type="http://schemas.openxmlformats.org/officeDocument/2006/relationships/audio" Target="../media/tryagian2.wav"/><Relationship Id="rId2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Do you Dare Challeng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The Great, All Knowing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Robot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Robi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909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438280" y="127080"/>
            <a:ext cx="4503960" cy="6502320"/>
            <a:chOff x="2438280" y="127080"/>
            <a:chExt cx="4503960" cy="650232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2438280" y="127080"/>
              <a:ext cx="4503960" cy="65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795840" y="3276720"/>
              <a:ext cx="1828800" cy="16761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809880" y="340056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obie Know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re Than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100"/>
                            </p:stCondLst>
                            <p:childTnLst>
                              <p:par>
                                <p:cTn id="29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6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100"/>
                            </p:stCondLst>
                            <p:childTnLst>
                              <p:par>
                                <p:cTn id="39" nodeType="afterEffect" fill="hold" presetClass="exit" presetID="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600"/>
                            </p:stCondLst>
                            <p:childTnLst>
                              <p:par>
                                <p:cTn id="4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562720" y="990720"/>
            <a:ext cx="236196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990720"/>
            <a:ext cx="236232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57240" y="4038480"/>
          <a:ext cx="1713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4038480"/>
                    <a:ext cx="1713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143000" y="1176480"/>
            <a:ext cx="6781680" cy="5681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2f4675"/>
              </a:gs>
              <a:gs pos="100000">
                <a:srgbClr val="6699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3022560"/>
          <a:ext cx="22860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225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857760" y="0"/>
            <a:ext cx="1295280" cy="95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7923240" y="1206360"/>
          <a:ext cx="1138320" cy="184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23240" y="1206360"/>
                    <a:ext cx="113832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629160" y="990720"/>
            <a:ext cx="1828800" cy="15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160" y="1219320"/>
          <a:ext cx="1128600" cy="18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160" y="1219320"/>
                    <a:ext cx="1128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924680" y="3048120"/>
          <a:ext cx="228600" cy="101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24680" y="304812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7924680" y="4038480"/>
          <a:ext cx="18900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24680" y="4038480"/>
                    <a:ext cx="189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7924680" y="4851360"/>
          <a:ext cx="228600" cy="1015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924680" y="48513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924680" y="5943600"/>
          <a:ext cx="206640" cy="914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924680" y="5943600"/>
                    <a:ext cx="2066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914400" y="4800600"/>
          <a:ext cx="228600" cy="1015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14400" y="480060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914400" y="5867280"/>
          <a:ext cx="228600" cy="1016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14400" y="5867280"/>
                    <a:ext cx="22860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295280" y="1295280"/>
            <a:ext cx="6477120" cy="13716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000000"/>
              </a:gs>
              <a:gs pos="100000">
                <a:srgbClr val="5f5f5f"/>
              </a:gs>
            </a:gsLst>
            <a:lin ang="5400000"/>
          </a:gra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The name of the tool that scienctists use to classify unknown organisms by using two cho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274320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Which Answer Below is Correct? - Robie Know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71800" y="510552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66760" y="571500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441972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373392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571500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441972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eld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510552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omial nomencl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373392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chotomous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656748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previousslide"/>
          </p:cNvPr>
          <p:cNvSpPr/>
          <p:nvPr/>
        </p:nvSpPr>
        <p:spPr>
          <a:xfrm rot="10800000">
            <a:off x="129492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ck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17960" y="3048120"/>
            <a:ext cx="838080" cy="609480"/>
          </a:xfrm>
          <a:prstGeom prst="rect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7828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evt="end">
                                        <p:tn val="51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evt="end">
                                        <p:tn val="55"/>
                                      </p:cond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evt="end">
                                        <p:tn val="59"/>
                                      </p:cond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evt="end">
                                        <p:tn val="63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evt="end">
                                        <p:tn val="75"/>
                                      </p:cond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evt="end">
                                        <p:tn val="79"/>
                                      </p:cond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3"/>
                                      </p:cond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evt="end">
                                        <p:tn val="87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evt="end">
                                        <p:tn val="91"/>
                                      </p:cond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evt="end">
                                        <p:tn val="99"/>
                                      </p:cond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evt="end">
                                        <p:tn val="103"/>
                                      </p:cond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evt="end">
                                        <p:tn val="111"/>
                                      </p:cond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evt="end">
                                        <p:tn val="119"/>
                                      </p:cond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evt="end">
                                        <p:tn val="123"/>
                                      </p:cond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evt="end">
                                        <p:tn val="131"/>
                                      </p:cond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evt="end">
                                        <p:tn val="135"/>
                                      </p:cond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evt="end">
                                        <p:tn val="139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evt="end">
                                        <p:tn val="143"/>
                                      </p:cond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evt="end">
                                        <p:tn val="151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evt="end">
                                        <p:tn val="159"/>
                                      </p:cond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3"/>
                                      </p:cond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reatjob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562720" y="990720"/>
            <a:ext cx="236196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990720"/>
            <a:ext cx="236232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57240" y="4038480"/>
          <a:ext cx="1713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4038480"/>
                    <a:ext cx="1713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143000" y="1176480"/>
            <a:ext cx="6781680" cy="5681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2f4675"/>
              </a:gs>
              <a:gs pos="100000">
                <a:srgbClr val="6699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3022560"/>
          <a:ext cx="22860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225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3857760" y="0"/>
            <a:ext cx="1295280" cy="95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7923240" y="1206360"/>
          <a:ext cx="1138320" cy="184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23240" y="1206360"/>
                    <a:ext cx="113832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629160" y="990720"/>
            <a:ext cx="1828800" cy="15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160" y="1219320"/>
          <a:ext cx="1128600" cy="18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160" y="1219320"/>
                    <a:ext cx="1128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7924680" y="3048120"/>
          <a:ext cx="228600" cy="101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24680" y="304812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7924680" y="4038480"/>
          <a:ext cx="18900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24680" y="4038480"/>
                    <a:ext cx="189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7924680" y="4851360"/>
          <a:ext cx="228600" cy="1015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924680" y="48513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924680" y="5943600"/>
          <a:ext cx="206640" cy="914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924680" y="5943600"/>
                    <a:ext cx="2066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914400" y="4800600"/>
          <a:ext cx="228600" cy="1015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14400" y="480060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914400" y="5867280"/>
          <a:ext cx="228600" cy="1016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14400" y="5867280"/>
                    <a:ext cx="22860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295280" y="1295280"/>
            <a:ext cx="6477120" cy="13716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000000"/>
              </a:gs>
              <a:gs pos="100000">
                <a:srgbClr val="5f5f5f"/>
              </a:gs>
            </a:gsLst>
            <a:lin ang="5400000"/>
          </a:gra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The process in which scientists arrange organisms into groups based on similarities is called 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74320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Which Answer Below is Correct? - Robie Know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71800" y="510552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66760" y="571500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388620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449568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571500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388620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510552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449568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656748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 rot="10800000">
            <a:off x="129492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ck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17960" y="3048120"/>
            <a:ext cx="838080" cy="609480"/>
          </a:xfrm>
          <a:prstGeom prst="rect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7828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evt="end">
                                        <p:tn val="198"/>
                                      </p:cond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evt="end">
                                        <p:tn val="202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evt="end">
                                        <p:tn val="206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evt="end">
                                        <p:tn val="214"/>
                                      </p:cond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8"/>
                                      </p:cond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evt="end">
                                        <p:tn val="226"/>
                                      </p:cond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evt="end">
                                        <p:tn val="242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evt="end">
                                        <p:tn val="246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evt="end">
                                        <p:tn val="250"/>
                                      </p:cond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evt="end">
                                        <p:tn val="254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evt="end">
                                        <p:tn val="262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evt="end">
                                        <p:tn val="266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evt="end">
                                        <p:tn val="270"/>
                                      </p:cond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evt="end">
                                        <p:tn val="274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evt="end">
                                        <p:tn val="278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evt="end">
                                        <p:tn val="282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evt="end">
                                        <p:tn val="286"/>
                                      </p:cond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evt="end">
                                        <p:tn val="290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evt="end">
                                        <p:tn val="294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evt="end">
                                        <p:tn val="298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7000"/>
                            </p:stCondLst>
                            <p:childTnLst>
                              <p:par>
                                <p:cTn id="3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evt="end">
                                        <p:tn val="306"/>
                                      </p:cond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8000"/>
                            </p:stCondLst>
                            <p:childTnLst>
                              <p:par>
                                <p:cTn id="3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evt="end">
                                        <p:tn val="310"/>
                                      </p:cond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9000"/>
                            </p:stCondLst>
                            <p:childTnLst>
                              <p:par>
                                <p:cTn id="3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evt="end">
                                        <p:tn val="314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reatjob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562720" y="990720"/>
            <a:ext cx="236196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990720"/>
            <a:ext cx="236232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957240" y="4038480"/>
          <a:ext cx="1713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4038480"/>
                    <a:ext cx="1713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143000" y="1176480"/>
            <a:ext cx="6781680" cy="5681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2f4675"/>
              </a:gs>
              <a:gs pos="100000">
                <a:srgbClr val="6699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14400" y="3022560"/>
          <a:ext cx="22860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225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857760" y="0"/>
            <a:ext cx="1295280" cy="95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7923240" y="1206360"/>
          <a:ext cx="1138320" cy="184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23240" y="1206360"/>
                    <a:ext cx="113832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629160" y="990720"/>
            <a:ext cx="1828800" cy="15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160" y="1219320"/>
          <a:ext cx="1128600" cy="18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160" y="1219320"/>
                    <a:ext cx="1128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924680" y="3048120"/>
          <a:ext cx="228600" cy="101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24680" y="304812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924680" y="4038480"/>
          <a:ext cx="18900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24680" y="4038480"/>
                    <a:ext cx="189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7924680" y="4851360"/>
          <a:ext cx="228600" cy="1015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924680" y="48513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7924680" y="5943600"/>
          <a:ext cx="206640" cy="914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924680" y="5943600"/>
                    <a:ext cx="2066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914400" y="4800600"/>
          <a:ext cx="228600" cy="1015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14400" y="480060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914400" y="5867280"/>
          <a:ext cx="228600" cy="1016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14400" y="5867280"/>
                    <a:ext cx="22860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295280" y="1295280"/>
            <a:ext cx="6477120" cy="13716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000000"/>
              </a:gs>
              <a:gs pos="100000">
                <a:srgbClr val="5f5f5f"/>
              </a:gs>
            </a:gsLst>
            <a:lin ang="5400000"/>
          </a:gra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What is the science of arranging organisms into groups and giving them na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274320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Which Answer Below is Correct? - Robie Know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71800" y="449568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66760" y="571500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388620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510552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571500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88620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49568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52480" y="510552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656748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 rot="10800000">
            <a:off x="129492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ck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17960" y="3048120"/>
            <a:ext cx="838080" cy="609480"/>
          </a:xfrm>
          <a:prstGeom prst="rect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7828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evt="end">
                                        <p:tn val="345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1" dur="1" fill="hold">
                                    <p:stCondLst>
                                      <p:cond evt="end">
                                        <p:tn val="349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evt="end">
                                        <p:tn val="353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evt="end">
                                        <p:tn val="357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evt="end">
                                        <p:tn val="361"/>
                                      </p:cond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7" dur="1" fill="hold">
                                    <p:stCondLst>
                                      <p:cond evt="end">
                                        <p:tn val="365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evt="end">
                                        <p:tn val="369"/>
                                      </p:cond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000"/>
                            </p:stCondLst>
                            <p:childTnLst>
                              <p:par>
                                <p:cTn id="3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5" dur="1" fill="hold">
                                    <p:stCondLst>
                                      <p:cond evt="end">
                                        <p:tn val="373"/>
                                      </p:cond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evt="end">
                                        <p:tn val="377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9000"/>
                            </p:stCondLst>
                            <p:childTnLst>
                              <p:par>
                                <p:cTn id="3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3" dur="1" fill="hold">
                                    <p:stCondLst>
                                      <p:cond evt="end">
                                        <p:tn val="381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7" dur="1" fill="hold">
                                    <p:stCondLst>
                                      <p:cond evt="end">
                                        <p:tn val="385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1" dur="1" fill="hold">
                                    <p:stCondLst>
                                      <p:cond evt="end">
                                        <p:tn val="389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evt="end">
                                        <p:tn val="393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evt="end">
                                        <p:tn val="397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evt="end">
                                        <p:tn val="401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evt="end">
                                        <p:tn val="405"/>
                                      </p:cond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evt="end">
                                        <p:tn val="409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evt="end">
                                        <p:tn val="413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evt="end">
                                        <p:tn val="417"/>
                                      </p:cond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evt="end">
                                        <p:tn val="421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7" dur="1" fill="hold">
                                    <p:stCondLst>
                                      <p:cond evt="end">
                                        <p:tn val="425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evt="end">
                                        <p:tn val="429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5" dur="1" fill="hold">
                                    <p:stCondLst>
                                      <p:cond evt="end">
                                        <p:tn val="433"/>
                                      </p:cond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9" dur="1" fill="hold">
                                    <p:stCondLst>
                                      <p:cond evt="end">
                                        <p:tn val="437"/>
                                      </p:cond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4000"/>
                            </p:stCondLst>
                            <p:childTnLst>
                              <p:par>
                                <p:cTn id="4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evt="end">
                                        <p:tn val="441"/>
                                      </p:cond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5"/>
                                      </p:cond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6000"/>
                            </p:stCondLst>
                            <p:childTnLst>
                              <p:par>
                                <p:cTn id="4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evt="end">
                                        <p:tn val="449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8000"/>
                            </p:stCondLst>
                            <p:childTnLst>
                              <p:par>
                                <p:cTn id="4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evt="end">
                                        <p:tn val="457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9000"/>
                            </p:stCondLst>
                            <p:childTnLst>
                              <p:par>
                                <p:cTn id="4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3" dur="1" fill="hold">
                                    <p:stCondLst>
                                      <p:cond evt="end">
                                        <p:tn val="461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reatjob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562720" y="990720"/>
            <a:ext cx="236196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990720"/>
            <a:ext cx="236232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957240" y="4038480"/>
          <a:ext cx="1713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4038480"/>
                    <a:ext cx="1713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143000" y="1176480"/>
            <a:ext cx="6781680" cy="5681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2f4675"/>
              </a:gs>
              <a:gs pos="100000">
                <a:srgbClr val="6699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14400" y="3022560"/>
          <a:ext cx="22860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225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3857760" y="0"/>
            <a:ext cx="1295280" cy="95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7923240" y="1206360"/>
          <a:ext cx="1138320" cy="184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23240" y="1206360"/>
                    <a:ext cx="113832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629160" y="990720"/>
            <a:ext cx="1828800" cy="15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1160" y="1219320"/>
          <a:ext cx="1128600" cy="18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160" y="1219320"/>
                    <a:ext cx="1128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7924680" y="3048120"/>
          <a:ext cx="228600" cy="101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24680" y="304812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7924680" y="4038480"/>
          <a:ext cx="18900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24680" y="4038480"/>
                    <a:ext cx="189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7924680" y="4851360"/>
          <a:ext cx="228600" cy="1015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924680" y="48513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7924680" y="5943600"/>
          <a:ext cx="206640" cy="914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924680" y="5943600"/>
                    <a:ext cx="2066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914400" y="4800600"/>
          <a:ext cx="228600" cy="1015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14400" y="480060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914400" y="5867280"/>
          <a:ext cx="228600" cy="1016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14400" y="5867280"/>
                    <a:ext cx="22860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295280" y="1295280"/>
            <a:ext cx="6477120" cy="13716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000000"/>
              </a:gs>
              <a:gs pos="100000">
                <a:srgbClr val="5f5f5f"/>
              </a:gs>
            </a:gsLst>
            <a:lin ang="5400000"/>
          </a:gra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What is the type of evidence that may include characteristics such as color, size, and weig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81080" y="274320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Which Answer Below is Correct? - Robie Know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71800" y="449568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66760" y="510552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388620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7400" y="571500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510552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388620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449568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52480" y="571500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656748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previousslide"/>
          </p:cNvPr>
          <p:cNvSpPr/>
          <p:nvPr/>
        </p:nvSpPr>
        <p:spPr>
          <a:xfrm rot="10800000">
            <a:off x="129492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ck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17960" y="3048120"/>
            <a:ext cx="838080" cy="609480"/>
          </a:xfrm>
          <a:prstGeom prst="rect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7828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4" dur="1" fill="hold">
                                    <p:stCondLst>
                                      <p:cond evt="end">
                                        <p:tn val="492"/>
                                      </p:cond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evt="end">
                                        <p:tn val="496"/>
                                      </p:cond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2" dur="1" fill="hold">
                                    <p:stCondLst>
                                      <p:cond evt="end">
                                        <p:tn val="500"/>
                                      </p:cond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evt="end">
                                        <p:tn val="504"/>
                                      </p:cond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0"/>
                            </p:stCondLst>
                            <p:childTnLst>
                              <p:par>
                                <p:cTn id="5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evt="end">
                                        <p:tn val="512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8" dur="1" fill="hold">
                                    <p:stCondLst>
                                      <p:cond evt="end">
                                        <p:tn val="516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000"/>
                            </p:stCondLst>
                            <p:childTnLst>
                              <p:par>
                                <p:cTn id="5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evt="end">
                                        <p:tn val="520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8000"/>
                            </p:stCondLst>
                            <p:childTnLst>
                              <p:par>
                                <p:cTn id="5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evt="end">
                                        <p:tn val="524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9000"/>
                            </p:stCondLst>
                            <p:childTnLst>
                              <p:par>
                                <p:cTn id="5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evt="end">
                                        <p:tn val="528"/>
                                      </p:cond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4" dur="1" fill="hold">
                                    <p:stCondLst>
                                      <p:cond evt="end">
                                        <p:tn val="532"/>
                                      </p:cond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8" dur="1" fill="hold">
                                    <p:stCondLst>
                                      <p:cond evt="end">
                                        <p:tn val="536"/>
                                      </p:cond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evt="end">
                                        <p:tn val="540"/>
                                      </p:cond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6" dur="1" fill="hold">
                                    <p:stCondLst>
                                      <p:cond evt="end">
                                        <p:tn val="544"/>
                                      </p:cond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0" dur="1" fill="hold">
                                    <p:stCondLst>
                                      <p:cond evt="end">
                                        <p:tn val="548"/>
                                      </p:cond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4" dur="1" fill="hold">
                                    <p:stCondLst>
                                      <p:cond evt="end">
                                        <p:tn val="552"/>
                                      </p:cond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8" dur="1" fill="hold">
                                    <p:stCondLst>
                                      <p:cond evt="end">
                                        <p:tn val="556"/>
                                      </p:cond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2" dur="1" fill="hold">
                                    <p:stCondLst>
                                      <p:cond evt="end">
                                        <p:tn val="560"/>
                                      </p:cond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6" dur="1" fill="hold">
                                    <p:stCondLst>
                                      <p:cond evt="end">
                                        <p:tn val="564"/>
                                      </p:cond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9000"/>
                            </p:stCondLst>
                            <p:childTnLst>
                              <p:par>
                                <p:cTn id="5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0" dur="1" fill="hold">
                                    <p:stCondLst>
                                      <p:cond evt="end">
                                        <p:tn val="568"/>
                                      </p:cond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4" dur="1" fill="hold">
                                    <p:stCondLst>
                                      <p:cond evt="end">
                                        <p:tn val="572"/>
                                      </p:cond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8" dur="1" fill="hold">
                                    <p:stCondLst>
                                      <p:cond evt="end">
                                        <p:tn val="576"/>
                                      </p:cond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2" dur="1" fill="hold">
                                    <p:stCondLst>
                                      <p:cond evt="end">
                                        <p:tn val="580"/>
                                      </p:cond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3000"/>
                            </p:stCondLst>
                            <p:childTnLst>
                              <p:par>
                                <p:cTn id="5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6" dur="1" fill="hold">
                                    <p:stCondLst>
                                      <p:cond evt="end">
                                        <p:tn val="584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4000"/>
                            </p:stCondLst>
                            <p:childTnLst>
                              <p:par>
                                <p:cTn id="5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0" dur="1" fill="hold">
                                    <p:stCondLst>
                                      <p:cond evt="end">
                                        <p:tn val="588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evt="end">
                                        <p:tn val="592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evt="end">
                                        <p:tn val="596"/>
                                      </p:cond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7000"/>
                            </p:stCondLst>
                            <p:childTnLst>
                              <p:par>
                                <p:cTn id="6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2" dur="1" fill="hold">
                                    <p:stCondLst>
                                      <p:cond evt="end">
                                        <p:tn val="600"/>
                                      </p:cond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6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6" dur="1" fill="hold">
                                    <p:stCondLst>
                                      <p:cond evt="end">
                                        <p:tn val="604"/>
                                      </p:cond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6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0" dur="1" fill="hold">
                                    <p:stCondLst>
                                      <p:cond evt="end">
                                        <p:tn val="608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reatjob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562720" y="990720"/>
            <a:ext cx="236196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990720"/>
            <a:ext cx="236232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957240" y="4038480"/>
          <a:ext cx="1713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4038480"/>
                    <a:ext cx="1713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1143000" y="1176480"/>
            <a:ext cx="6781680" cy="5681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2f4675"/>
              </a:gs>
              <a:gs pos="100000">
                <a:srgbClr val="6699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914400" y="3022560"/>
          <a:ext cx="22860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225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3857760" y="0"/>
            <a:ext cx="1295280" cy="95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"/>
          <p:cNvGraphicFramePr/>
          <p:nvPr/>
        </p:nvGraphicFramePr>
        <p:xfrm>
          <a:off x="7923240" y="1206360"/>
          <a:ext cx="1138320" cy="184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23240" y="1206360"/>
                    <a:ext cx="113832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3629160" y="990720"/>
            <a:ext cx="1828800" cy="15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1160" y="1219320"/>
          <a:ext cx="1128600" cy="18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160" y="1219320"/>
                    <a:ext cx="1128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7924680" y="3048120"/>
          <a:ext cx="228600" cy="101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24680" y="304812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7924680" y="4038480"/>
          <a:ext cx="18900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24680" y="4038480"/>
                    <a:ext cx="189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7924680" y="4851360"/>
          <a:ext cx="228600" cy="1015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924680" y="48513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7924680" y="5943600"/>
          <a:ext cx="206640" cy="914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924680" y="5943600"/>
                    <a:ext cx="2066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914400" y="4800600"/>
          <a:ext cx="228600" cy="1015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14400" y="480060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914400" y="5867280"/>
          <a:ext cx="228600" cy="1016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14400" y="5867280"/>
                    <a:ext cx="22860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1295280" y="1295280"/>
            <a:ext cx="6477120" cy="13716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000000"/>
              </a:gs>
              <a:gs pos="100000">
                <a:srgbClr val="5f5f5f"/>
              </a:gs>
            </a:gsLst>
            <a:lin ang="5400000"/>
          </a:gra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Scientist compare DNA sequences of two organisms for similarities to get genetic evidence to prove the organisms are closely 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81080" y="274320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Which Answer Below is Correct? - Robie Know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441972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373392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752480" y="441972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373392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656748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 rot="10800000">
            <a:off x="129492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ck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17960" y="3048120"/>
            <a:ext cx="838080" cy="609480"/>
          </a:xfrm>
          <a:prstGeom prst="rect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7828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1" dur="1" fill="hold">
                                    <p:stCondLst>
                                      <p:cond evt="end">
                                        <p:tn val="639"/>
                                      </p:cond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5" dur="1" fill="hold">
                                    <p:stCondLst>
                                      <p:cond evt="end">
                                        <p:tn val="643"/>
                                      </p:cond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evt="end">
                                        <p:tn val="647"/>
                                      </p:cond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3" dur="1" fill="hold">
                                    <p:stCondLst>
                                      <p:cond evt="end">
                                        <p:tn val="651"/>
                                      </p:cond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evt="end">
                                        <p:tn val="655"/>
                                      </p:cond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0"/>
                            </p:stCondLst>
                            <p:childTnLst>
                              <p:par>
                                <p:cTn id="6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1" dur="1" fill="hold">
                                    <p:stCondLst>
                                      <p:cond evt="end">
                                        <p:tn val="659"/>
                                      </p:cond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5" dur="1" fill="hold">
                                    <p:stCondLst>
                                      <p:cond evt="end">
                                        <p:tn val="663"/>
                                      </p:cond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9" dur="1" fill="hold">
                                    <p:stCondLst>
                                      <p:cond evt="end">
                                        <p:tn val="667"/>
                                      </p:cond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8000"/>
                            </p:stCondLst>
                            <p:childTnLst>
                              <p:par>
                                <p:cTn id="6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3" dur="1" fill="hold">
                                    <p:stCondLst>
                                      <p:cond evt="end">
                                        <p:tn val="671"/>
                                      </p:cond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9000"/>
                            </p:stCondLst>
                            <p:childTnLst>
                              <p:par>
                                <p:cTn id="6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evt="end">
                                        <p:tn val="675"/>
                                      </p:cond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1" dur="1" fill="hold">
                                    <p:stCondLst>
                                      <p:cond evt="end">
                                        <p:tn val="679"/>
                                      </p:cond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5" dur="1" fill="hold">
                                    <p:stCondLst>
                                      <p:cond evt="end">
                                        <p:tn val="683"/>
                                      </p:cond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9" dur="1" fill="hold">
                                    <p:stCondLst>
                                      <p:cond evt="end">
                                        <p:tn val="687"/>
                                      </p:cond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3" dur="1" fill="hold">
                                    <p:stCondLst>
                                      <p:cond evt="end">
                                        <p:tn val="691"/>
                                      </p:cond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evt="end">
                                        <p:tn val="695"/>
                                      </p:cond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1" dur="1" fill="hold">
                                    <p:stCondLst>
                                      <p:cond evt="end">
                                        <p:tn val="699"/>
                                      </p:cond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5" dur="1" fill="hold">
                                    <p:stCondLst>
                                      <p:cond evt="end">
                                        <p:tn val="703"/>
                                      </p:cond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evt="end">
                                        <p:tn val="707"/>
                                      </p:cond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3" dur="1" fill="hold">
                                    <p:stCondLst>
                                      <p:cond evt="end">
                                        <p:tn val="711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7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evt="end">
                                        <p:tn val="715"/>
                                      </p:cond>
                                    </p:stCondLst>
                                  </p:cTn>
                                  <p:tgtEl>
                                    <p:spTgt spid="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0000"/>
                            </p:stCondLst>
                            <p:childTnLst>
                              <p:par>
                                <p:cTn id="7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1" dur="1" fill="hold">
                                    <p:stCondLst>
                                      <p:cond evt="end">
                                        <p:tn val="719"/>
                                      </p:cond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1000"/>
                            </p:stCondLst>
                            <p:childTnLst>
                              <p:par>
                                <p:cTn id="7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5" dur="1" fill="hold">
                                    <p:stCondLst>
                                      <p:cond evt="end">
                                        <p:tn val="723"/>
                                      </p:cond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9" dur="1" fill="hold">
                                    <p:stCondLst>
                                      <p:cond evt="end">
                                        <p:tn val="727"/>
                                      </p:cond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23000"/>
                            </p:stCondLst>
                            <p:childTnLst>
                              <p:par>
                                <p:cTn id="7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3" dur="1" fill="hold">
                                    <p:stCondLst>
                                      <p:cond evt="end">
                                        <p:tn val="731"/>
                                      </p:cond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4000"/>
                            </p:stCondLst>
                            <p:childTnLst>
                              <p:par>
                                <p:cTn id="7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7" dur="1" fill="hold">
                                    <p:stCondLst>
                                      <p:cond evt="end">
                                        <p:tn val="735"/>
                                      </p:cond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25000"/>
                            </p:stCondLst>
                            <p:childTnLst>
                              <p:par>
                                <p:cTn id="7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1" dur="1" fill="hold">
                                    <p:stCondLst>
                                      <p:cond evt="end">
                                        <p:tn val="739"/>
                                      </p:cond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6000"/>
                            </p:stCondLst>
                            <p:childTnLst>
                              <p:par>
                                <p:cTn id="7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5" dur="1" fill="hold">
                                    <p:stCondLst>
                                      <p:cond evt="end">
                                        <p:tn val="743"/>
                                      </p:cond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7000"/>
                            </p:stCondLst>
                            <p:childTnLst>
                              <p:par>
                                <p:cTn id="7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9" dur="1" fill="hold">
                                    <p:stCondLst>
                                      <p:cond evt="end">
                                        <p:tn val="747"/>
                                      </p:cond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8000"/>
                            </p:stCondLst>
                            <p:childTnLst>
                              <p:par>
                                <p:cTn id="7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3" dur="1" fill="hold">
                                    <p:stCondLst>
                                      <p:cond evt="end">
                                        <p:tn val="751"/>
                                      </p:cond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9000"/>
                            </p:stCondLst>
                            <p:childTnLst>
                              <p:par>
                                <p:cTn id="7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evt="end">
                                        <p:tn val="755"/>
                                      </p:cond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reatjob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6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562720" y="990720"/>
            <a:ext cx="236196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990720"/>
            <a:ext cx="2362320" cy="22860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957240" y="4038480"/>
          <a:ext cx="1713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4038480"/>
                    <a:ext cx="1713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1143000" y="1176480"/>
            <a:ext cx="6781680" cy="56815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2f4675"/>
              </a:gs>
              <a:gs pos="100000">
                <a:srgbClr val="6699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914400" y="3022560"/>
          <a:ext cx="22860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0225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3857760" y="0"/>
            <a:ext cx="1295280" cy="95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1" name=""/>
          <p:cNvGraphicFramePr/>
          <p:nvPr/>
        </p:nvGraphicFramePr>
        <p:xfrm>
          <a:off x="7923240" y="1206360"/>
          <a:ext cx="1138320" cy="1841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23240" y="1206360"/>
                    <a:ext cx="113832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>
            <a:off x="3629160" y="990720"/>
            <a:ext cx="1828800" cy="15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1160" y="1219320"/>
          <a:ext cx="1128600" cy="18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160" y="1219320"/>
                    <a:ext cx="11286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7924680" y="3048120"/>
          <a:ext cx="228600" cy="1015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924680" y="304812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7924680" y="4038480"/>
          <a:ext cx="18900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924680" y="4038480"/>
                    <a:ext cx="189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7924680" y="4851360"/>
          <a:ext cx="228600" cy="1015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924680" y="485136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7924680" y="5943600"/>
          <a:ext cx="206640" cy="914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924680" y="5943600"/>
                    <a:ext cx="2066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914400" y="4800600"/>
          <a:ext cx="228600" cy="1015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914400" y="4800600"/>
                    <a:ext cx="22860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914400" y="5867280"/>
          <a:ext cx="228600" cy="10162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14400" y="5867280"/>
                    <a:ext cx="22860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1295280" y="1295280"/>
            <a:ext cx="6477120" cy="13716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000000"/>
              </a:gs>
              <a:gs pos="100000">
                <a:srgbClr val="5f5f5f"/>
              </a:gs>
            </a:gsLst>
            <a:lin ang="5400000"/>
          </a:gradFill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</a:rPr>
              <a:t>Taxonomy is a random way that scientists travel through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81080" y="274320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Verdana"/>
              </a:rPr>
              <a:t>Which Answer Below is Correct? - Robie Know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057400" y="388620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4495680"/>
            <a:ext cx="4800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e Says – 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52480" y="388620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752480" y="4495680"/>
            <a:ext cx="5639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656748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previousslide"/>
          </p:cNvPr>
          <p:cNvSpPr/>
          <p:nvPr/>
        </p:nvSpPr>
        <p:spPr>
          <a:xfrm rot="10800000">
            <a:off x="1294920" y="32004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ck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17960" y="3048120"/>
            <a:ext cx="838080" cy="609480"/>
          </a:xfrm>
          <a:prstGeom prst="rect">
            <a:avLst/>
          </a:prstGeom>
          <a:solidFill>
            <a:srgbClr val="0099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7828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86200" y="297180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evt="end">
                                        <p:tn val="774"/>
                                      </p:cond>
                                    </p:stCondLst>
                                  </p:cTn>
                                  <p:tgtEl>
                                    <p:spTgt spid="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0" dur="1" fill="hold">
                                    <p:stCondLst>
                                      <p:cond evt="end">
                                        <p:tn val="778"/>
                                      </p:cond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4" dur="1" fill="hold">
                                    <p:stCondLst>
                                      <p:cond evt="end">
                                        <p:tn val="782"/>
                                      </p:cond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8" dur="1" fill="hold">
                                    <p:stCondLst>
                                      <p:cond evt="end">
                                        <p:tn val="786"/>
                                      </p:cond>
                                    </p:stCondLst>
                                  </p:cTn>
                                  <p:tgtEl>
                                    <p:spTgt spid="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4000"/>
                            </p:stCondLst>
                            <p:childTnLst>
                              <p:par>
                                <p:cTn id="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2" dur="1" fill="hold">
                                    <p:stCondLst>
                                      <p:cond evt="end">
                                        <p:tn val="790"/>
                                      </p:cond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0"/>
                            </p:stCondLst>
                            <p:childTnLst>
                              <p:par>
                                <p:cTn id="7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6" dur="1" fill="hold">
                                    <p:stCondLst>
                                      <p:cond evt="end">
                                        <p:tn val="794"/>
                                      </p:cond>
                                    </p:stCondLst>
                                  </p:cTn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6000"/>
                            </p:stCondLst>
                            <p:childTnLst>
                              <p:par>
                                <p:cTn id="7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0" dur="1" fill="hold">
                                    <p:stCondLst>
                                      <p:cond evt="end">
                                        <p:tn val="798"/>
                                      </p:cond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7000"/>
                            </p:stCondLst>
                            <p:childTnLst>
                              <p:par>
                                <p:cTn id="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4" dur="1" fill="hold">
                                    <p:stCondLst>
                                      <p:cond evt="end">
                                        <p:tn val="802"/>
                                      </p:cond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8000"/>
                            </p:stCondLst>
                            <p:childTnLst>
                              <p:par>
                                <p:cTn id="8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8" dur="1" fill="hold">
                                    <p:stCondLst>
                                      <p:cond evt="end">
                                        <p:tn val="806"/>
                                      </p:cond>
                                    </p:stCondLst>
                                  </p:cTn>
                                  <p:tgtEl>
                                    <p:spTgt spid="4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9000"/>
                            </p:stCondLst>
                            <p:childTnLst>
                              <p:par>
                                <p:cTn id="8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2" dur="1" fill="hold">
                                    <p:stCondLst>
                                      <p:cond evt="end">
                                        <p:tn val="810"/>
                                      </p:cond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6" dur="1" fill="hold">
                                    <p:stCondLst>
                                      <p:cond evt="end">
                                        <p:tn val="814"/>
                                      </p:cond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0" dur="1" fill="hold">
                                    <p:stCondLst>
                                      <p:cond evt="end">
                                        <p:tn val="818"/>
                                      </p:cond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4" dur="1" fill="hold">
                                    <p:stCondLst>
                                      <p:cond evt="end">
                                        <p:tn val="822"/>
                                      </p:cond>
                                    </p:stCondLst>
                                  </p:cTn>
                                  <p:tgtEl>
                                    <p:spTgt spid="4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8" dur="1" fill="hold">
                                    <p:stCondLst>
                                      <p:cond evt="end">
                                        <p:tn val="826"/>
                                      </p:cond>
                                    </p:stCondLst>
                                  </p:cTn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2" dur="1" fill="hold">
                                    <p:stCondLst>
                                      <p:cond evt="end">
                                        <p:tn val="830"/>
                                      </p:cond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evt="end">
                                        <p:tn val="834"/>
                                      </p:cond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0" dur="1" fill="hold">
                                    <p:stCondLst>
                                      <p:cond evt="end">
                                        <p:tn val="838"/>
                                      </p:cond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4" dur="1" fill="hold">
                                    <p:stCondLst>
                                      <p:cond evt="end">
                                        <p:tn val="842"/>
                                      </p:cond>
                                    </p:stCondLst>
                                  </p:cTn>
                                  <p:tgtEl>
                                    <p:spTgt spid="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8" dur="1" fill="hold">
                                    <p:stCondLst>
                                      <p:cond evt="end">
                                        <p:tn val="846"/>
                                      </p:cond>
                                    </p:stCondLst>
                                  </p:cTn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9000"/>
                            </p:stCondLst>
                            <p:childTnLst>
                              <p:par>
                                <p:cTn id="8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evt="end">
                                        <p:tn val="850"/>
                                      </p:cond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6" dur="1" fill="hold">
                                    <p:stCondLst>
                                      <p:cond evt="end">
                                        <p:tn val="854"/>
                                      </p:cond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0" dur="1" fill="hold">
                                    <p:stCondLst>
                                      <p:cond evt="end">
                                        <p:tn val="858"/>
                                      </p:cond>
                                    </p:stCondLst>
                                  </p:cTn>
                                  <p:tgtEl>
                                    <p:spTgt spid="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4" dur="1" fill="hold">
                                    <p:stCondLst>
                                      <p:cond evt="end">
                                        <p:tn val="862"/>
                                      </p:cond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23000"/>
                            </p:stCondLst>
                            <p:childTnLst>
                              <p:par>
                                <p:cTn id="8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8" dur="1" fill="hold">
                                    <p:stCondLst>
                                      <p:cond evt="end">
                                        <p:tn val="866"/>
                                      </p:cond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4000"/>
                            </p:stCondLst>
                            <p:childTnLst>
                              <p:par>
                                <p:cTn id="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2" dur="1" fill="hold">
                                    <p:stCondLst>
                                      <p:cond evt="end">
                                        <p:tn val="870"/>
                                      </p:cond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0"/>
                            </p:stCondLst>
                            <p:childTnLst>
                              <p:par>
                                <p:cTn id="8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6" dur="1" fill="hold">
                                    <p:stCondLst>
                                      <p:cond evt="end">
                                        <p:tn val="874"/>
                                      </p:cond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6000"/>
                            </p:stCondLst>
                            <p:childTnLst>
                              <p:par>
                                <p:cTn id="8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0" dur="1" fill="hold">
                                    <p:stCondLst>
                                      <p:cond evt="end">
                                        <p:tn val="878"/>
                                      </p:cond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7000"/>
                            </p:stCondLst>
                            <p:childTnLst>
                              <p:par>
                                <p:cTn id="8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4" dur="1" fill="hold">
                                    <p:stCondLst>
                                      <p:cond evt="end">
                                        <p:tn val="882"/>
                                      </p:cond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8000"/>
                            </p:stCondLst>
                            <p:childTnLst>
                              <p:par>
                                <p:cTn id="8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8" dur="1" fill="hold">
                                    <p:stCondLst>
                                      <p:cond evt="end">
                                        <p:tn val="886"/>
                                      </p:cond>
                                    </p:stCondLst>
                                  </p:cTn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9000"/>
                            </p:stCondLst>
                            <p:childTnLst>
                              <p:par>
                                <p:cTn id="8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2" dur="1" fill="hold">
                                    <p:stCondLst>
                                      <p:cond evt="end">
                                        <p:tn val="890"/>
                                      </p:cond>
                                    </p:stCondLst>
                                  </p:cTn>
                                  <p:tgtEl>
                                    <p:spTgt spid="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894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reatjob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900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ryagian2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0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533520" y="623880"/>
            <a:ext cx="807696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hor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ff Ertzberger -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ty of North Carolina at Wilmingt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Clipart and Sounds Copyright Microsoft PowerPoint and Microsoft Office Gallery Online – All Rights Reserved.  Some images have been modified from original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presentation may not be sold, or redistributed without written permission, and may only be used for non-profit educational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Using and Distributing this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ou are free to use this template in non-profit educational setting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 sure to check Jeff Ertzberger’s  digital templates web site for even more template games and great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ttp://people.uncw.edu/ertzbergerj/msgame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" action="ppaction://hlinkshowjump?jump=endshow"/>
          </p:cNvPr>
          <p:cNvSpPr/>
          <p:nvPr/>
        </p:nvSpPr>
        <p:spPr>
          <a:xfrm>
            <a:off x="7029360" y="621036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End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9:27:46Z</dcterms:created>
  <dc:creator>GX270image</dc:creator>
  <dc:description/>
  <dc:language>en-US</dc:language>
  <cp:lastModifiedBy>ddwyer</cp:lastModifiedBy>
  <dcterms:modified xsi:type="dcterms:W3CDTF">2009-12-22T17:04:26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asVP">
    <vt:r8>1</vt:r8>
  </property>
</Properties>
</file>